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75B-C758-4820-9606-4F46F17F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08E-EC2D-41EE-BD7D-A59DE2A2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305-9BAA-4A88-9458-295A3799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8D9-445E-4304-A0A2-EC30A308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819-3643-40E4-981C-D0485EE4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B3F-A811-49E4-A523-9E9BCEB4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3BF-A12F-4791-B856-8EEB51B2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561-BBAA-4E1C-AEB0-30690C22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F3D-2909-41F6-8325-48DA22D4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870-9BE2-4D92-9347-F3968318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008-73C7-4CD4-A87F-62ED43DF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638-D52C-4D80-93D7-9F3EE5A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2EB1-D241-465A-ADB4-845EFF0E9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35676_7565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09480" y="-76320"/>
            <a:ext cx="7315200" cy="693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放飞理想成就梦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5" name="141529.mp3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我国首颗探月卫星嫦娥一号发射"/>
          <p:cNvPicPr/>
          <p:nvPr/>
        </p:nvPicPr>
        <p:blipFill>
          <a:blip r:embed="rId2"/>
          <a:stretch/>
        </p:blipFill>
        <p:spPr>
          <a:xfrm>
            <a:off x="0" y="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8时06分，“嫦娥一号”冉冉升起"/>
          <p:cNvPicPr/>
          <p:nvPr/>
        </p:nvPicPr>
        <p:blipFill>
          <a:blip r:embed="rId2"/>
          <a:stretch/>
        </p:blipFill>
        <p:spPr>
          <a:xfrm>
            <a:off x="0" y="0"/>
            <a:ext cx="8763120" cy="77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18时07分，“嫦娥一号”奔向太空"/>
          <p:cNvPicPr/>
          <p:nvPr/>
        </p:nvPicPr>
        <p:blipFill>
          <a:blip r:embed="rId2"/>
          <a:stretch/>
        </p:blipFill>
        <p:spPr>
          <a:xfrm>
            <a:off x="0" y="0"/>
            <a:ext cx="9144000" cy="870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2941569_02013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奔月示意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嫦娥一期系统组成"/>
          <p:cNvPicPr/>
          <p:nvPr/>
        </p:nvPicPr>
        <p:blipFill>
          <a:blip r:embed="rId2"/>
          <a:stretch/>
        </p:blipFill>
        <p:spPr>
          <a:xfrm>
            <a:off x="0" y="0"/>
            <a:ext cx="914400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测控网站分布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嫦娥一号"/>
          <p:cNvPicPr/>
          <p:nvPr/>
        </p:nvPicPr>
        <p:blipFill>
          <a:blip r:embed="rId2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月球车"/>
          <p:cNvPicPr/>
          <p:nvPr/>
        </p:nvPicPr>
        <p:blipFill>
          <a:blip r:embed="rId2"/>
          <a:stretch/>
        </p:blipFill>
        <p:spPr>
          <a:xfrm>
            <a:off x="0" y="0"/>
            <a:ext cx="99061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3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PMingLiU"/>
              </a:rPr>
              <a:t>沒有理想就沒有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solidFill>
            <a:srgbClr val="00ff00">
              <a:alpha val="2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理想是指路的明灯。没有理想，就没有坚定的方向，而没有方向就没有生活。这是托尔斯泰说的。成功之路漫漫漫，很多人没有到达它的终点，因为他们没有理想。如果有理想，也只是那种鼠目寸光的理想，但并不是真正的理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　　没有理想就没有成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2935877_519064"/>
          <p:cNvPicPr/>
          <p:nvPr/>
        </p:nvPicPr>
        <p:blipFill>
          <a:blip r:embed="rId2"/>
          <a:stretch/>
        </p:blipFill>
        <p:spPr>
          <a:xfrm>
            <a:off x="0" y="0"/>
            <a:ext cx="1005840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solidFill>
            <a:srgbClr val="bbe0e3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理想，是我们奋斗的方向。一个理想，并不是一个设想，而是一个得以实现的大目标；一个理想也并不是模糊的我希望我能，而是明确的我奋斗方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　　没有理想，束手无策，寸步难行；没有理想，人只是虚度光阴，走路时跌跌撞撞，不知行往何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　　没有理想，就没有成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562720"/>
          </a:xfrm>
          <a:prstGeom prst="rect">
            <a:avLst/>
          </a:prstGeom>
          <a:solidFill>
            <a:srgbClr val="bbe0e3">
              <a:alpha val="2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理想对于成功者，犹如空气对于生命，不可缺少。没有理想，就不知前进的方向，就不会有前进的动力，就不能愈越重重障碍，当然就不会有成功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　　没有理想就没有成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bbe0e3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理想是人生的太阳，万事万物都需要太阳的光阴。没有太阳，那是非常可怕的。培根曾说：“毫无理想而又优柔寡断是一种可悲的心理。”没有理想，要不了多久，你就会被生活所遗忘。你只会是一个默默无闻地来世，又默默无闻地死去的小人物。这是你所希望的吗？完全不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　　没有理想就没有成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>
              <a:alpha val="1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来到这个世上，谁不希望有所作为，谁不希望光宗耀祖，谁不希望自己能给后人留下财富。既然始此，那就得有理想，有自己的奋斗的目标，并沿着目标勇敢地行动下去。当你获得成功的时候，你就会说：“我没白活一辈子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放飞理想  成就梦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304920" y="2438280"/>
            <a:ext cx="769608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幼圆"/>
              </a:rPr>
              <a:t>七嘴八舌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幼圆"/>
              <a:ea typeface="幼圆"/>
            </a:endParaRPr>
          </a:p>
        </p:txBody>
      </p:sp>
      <p:pic>
        <p:nvPicPr>
          <p:cNvPr id="105" name="141529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早上6点，“嫦娥一号”整装待发"/>
          <p:cNvPicPr/>
          <p:nvPr/>
        </p:nvPicPr>
        <p:blipFill>
          <a:blip r:embed="rId2"/>
          <a:stretch/>
        </p:blipFill>
        <p:spPr>
          <a:xfrm>
            <a:off x="0" y="-762120"/>
            <a:ext cx="883908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西昌发射中心发射场全景"/>
          <p:cNvPicPr/>
          <p:nvPr/>
        </p:nvPicPr>
        <p:blipFill>
          <a:blip r:embed="rId2"/>
          <a:stretch/>
        </p:blipFill>
        <p:spPr>
          <a:xfrm>
            <a:off x="0" y="0"/>
            <a:ext cx="101347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7时05分，打开发射塔塔架"/>
          <p:cNvPicPr/>
          <p:nvPr/>
        </p:nvPicPr>
        <p:blipFill>
          <a:blip r:embed="rId2"/>
          <a:stretch/>
        </p:blipFill>
        <p:spPr>
          <a:xfrm>
            <a:off x="0" y="0"/>
            <a:ext cx="9144000" cy="76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早上6点，长征三号甲运载火箭开始加注液氢液氧燃料"/>
          <p:cNvPicPr/>
          <p:nvPr/>
        </p:nvPicPr>
        <p:blipFill>
          <a:blip r:embed="rId2"/>
          <a:stretch/>
        </p:blipFill>
        <p:spPr>
          <a:xfrm>
            <a:off x="0" y="0"/>
            <a:ext cx="102106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8时05分，“嫦娥一号”顺利点火"/>
          <p:cNvPicPr/>
          <p:nvPr/>
        </p:nvPicPr>
        <p:blipFill>
          <a:blip r:embed="rId2"/>
          <a:stretch/>
        </p:blipFill>
        <p:spPr>
          <a:xfrm>
            <a:off x="0" y="0"/>
            <a:ext cx="9144000" cy="74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点火发射,"/>
          <p:cNvPicPr/>
          <p:nvPr/>
        </p:nvPicPr>
        <p:blipFill>
          <a:blip r:embed="rId2"/>
          <a:stretch/>
        </p:blipFill>
        <p:spPr>
          <a:xfrm>
            <a:off x="0" y="0"/>
            <a:ext cx="10287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点火发射"/>
          <p:cNvPicPr/>
          <p:nvPr/>
        </p:nvPicPr>
        <p:blipFill>
          <a:blip r:embed="rId2"/>
          <a:stretch/>
        </p:blipFill>
        <p:spPr>
          <a:xfrm>
            <a:off x="0" y="0"/>
            <a:ext cx="93726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4:46Z</dcterms:modified>
  <cp:revision>10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